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B7A-CA8D-4E1A-A65F-F10D77E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FE8-83FE-41F4-93B4-82F31E7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2C3C2-D7B3-4B06-8DC6-11CF3EB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AF812-8977-4E36-8021-8864138B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64984-2975-4ACA-AC94-B24E99D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FB60F-B7B7-47A4-8E35-9C83763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20D61-E1E0-42A4-B921-9F9B8DEB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4AB0B-7BD6-46F4-92B1-B6C97B2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A2FFA-B01C-4F14-A20F-25A2C7A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BD5D9-6627-49D5-93F5-DBF48332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28B79-A3A7-45CF-BDA5-BE7C0A17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2E3DE-6E5D-4921-B959-173B2E55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237-71F6-4B96-9A76-F8B8EF4E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B7F68-3C8A-4682-9FC2-287FC5EF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7CB08-EE9A-49AC-A703-A307D207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BB3D4-8E1C-4D11-89F0-78F60B61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9A704-2CFE-44AF-B64E-058BB32F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9C89-74C0-4872-B297-7F6A8875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6ABB6-0476-4F04-AA43-00CCF6A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C8CC5-1E6D-42B5-A926-C57031A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7B78-A142-484D-BB96-8B4FD36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05626-C30B-4B15-A4A4-897B7E4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B2475-C416-4193-887D-F438ED65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815-56A6-48C8-BB2B-1CF79A67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BE0CB-D3DE-45AD-894B-7E75FA50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24023-ADB4-4695-A1B2-3E39E8E8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57DED-FB61-408C-85EF-4250CE5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C862-F508-4570-BEF6-A0AB7A5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1E2C-1500-4C33-9174-35137FB5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876F8-487D-4CE3-BD14-6216363A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7D50A-9801-4731-B7F7-28DB7F8A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DD668-1F2E-496E-941B-BF1D990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DB56A-64C9-4E59-AF1E-F80A8EE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86D9F-2D9A-45AB-A055-F52A19D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B76-0533-4247-9313-46635A55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B3D29-7DA6-44D0-899E-E013619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C5F54-1347-42F1-B745-8AF52985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5F011-C1A3-4AC3-B0F5-1445E946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2EB06-2AA0-4343-9471-A66DF251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5F8C8-DEF0-4DE0-AAF1-BF8F950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EC856-4E9D-4486-AAD6-F1774E93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A4C23-AD43-4F31-9D62-CAF6D56C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AC148-E84B-48C6-A411-AEE3E5A0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53C91-9E96-492F-A947-FB97727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ADC6A-8526-4498-8435-998B6E1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426-DB4A-4996-BC0A-582CF77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38BE6-02CF-4DEE-85A9-409D3B7E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D87AA-3A78-442E-88FC-A759989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98B5E-F96F-4A5F-BBC9-48E655B9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1B5B8-0A59-4798-AEDF-328FB359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3261D-7A7B-412F-A02D-FC29F9D5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197FA-C839-4B24-8688-D1407FBE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252C4-CABF-498F-B354-3E3B3EB0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D9790-26F7-4EEC-AA6E-8177D8E4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1560F-111C-4F61-9C97-18065ED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0D210-3051-414F-9C66-E4F47B3F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1846-C7CD-4128-A0C6-4B01CEE7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1186B-0A7D-455B-A8E5-BF201C2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2093A-5709-45C0-8099-544C1BD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C502B-5C31-4683-9434-4F79C65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8272F-5661-4AB5-8175-F632FCE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1A291-FE90-4E5E-B654-97967E4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B6556-2AF3-4338-907F-1A5B7F88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3AEB2-05C5-4FA2-9A0B-EBD9889A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919E8-E091-4DF1-9B6E-272DECDF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AFA76-BDEF-4F36-B7AD-5B5A2E2C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513D7-3F3A-4183-AAA3-E69B9FAC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4D03-5AE5-403D-8077-FC461E0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C3B21-3DF8-4346-ADDF-28643D5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75848-6AC8-43F3-A57F-8805E7D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D7E2C-C393-48A9-815E-73C03558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0D685-369A-4B35-AE27-39653A7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0DA1F-5C62-497E-925C-72EC516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BBBF0-180B-4C61-9762-FA5A0099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F040E-A10C-4ECC-B919-FC6C9AE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2E8CF-E9BC-44BD-9FB4-43A7B4C6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3EC6C-37F2-4279-85A4-16CF89D8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74A9E-032A-4120-9152-195B24AD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9DF-CE98-4FE9-9835-49BE8E58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191A3-5D7F-4A83-B1FB-2E5BFADD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5B87A-5081-4EC3-A164-416078B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9C100-15FB-432E-9AF9-FD0AF683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7FA28-9F04-4BA9-8143-FFFAFFD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99CA2-C276-43B8-AB44-84728A8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2BA5E-D89A-4B4B-9209-2BEA8F18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BCE9B-388E-499F-A877-48DAB09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481E9-AB70-4BD5-A1D7-38E1725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C660F-B97C-4810-8D97-F2B070F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2B9F4-5DFA-4957-B684-20EE2606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CDE7-FE18-43EB-9EC5-C86750D5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5C826-9AFC-49A6-9CD2-0CEE0E2E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F5EC6-3864-40EA-9D85-10E57CE1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B56F5-348D-4A26-BFC2-0C53033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98F18-8D23-4B4A-9FC6-3FDBE62F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79A90-1214-48FB-AA1A-DE0633D4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E040A-7177-45AC-AC98-7EFC212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3FF82-1CD5-4084-9C69-2A44A942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F890F-018E-4067-A6DC-2FCBF47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DA8CB-DD0B-486A-AAA5-1C3D2FA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C010D-B6EF-498B-B92E-47E7C4C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06E8-398F-4671-AC3D-4B2F30F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7A665-479F-4B58-87AA-E54C2B1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EFCE3-0FB2-4147-87DF-609F6D7C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2C0AD-7A10-4542-95E2-EF82D4B9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628F3-4E5A-4D4D-A849-EBBDC528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03974-C0E6-47C3-90F8-09710A5D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DD07A-B7B8-405A-8F53-D389630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ADAD6-09C1-4519-8A3B-3A076141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75D08-05D8-404F-80B2-EF67686F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B8B09-663D-443B-8735-FEAE35F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4C6EB-B12A-4DFD-92E6-22A594A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4E0-2993-4427-A5D6-96680209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457-E8F4-4574-93AE-5BDA937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1F26F-FBB9-401D-918C-D016807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502EF-3965-40EF-8DD6-A968E08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C3C3A-F419-4FE6-B7E4-7A698D42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A26CD-595A-4BF8-8DF4-0FD8C6A0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E4778-EF93-49FE-B963-CB2B660A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A4583-5AF0-48A0-BDA2-4913566A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F0BCD-9FA4-4CD2-ABA5-F10C7B37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CBE49-0B34-49AB-A987-C47FB365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C2E0E-FDB7-4E70-9860-7B1CDD1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BC908-3DDB-478B-A7B9-2BC550D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922-DB2F-439A-BFB7-F8EFA9C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DC091-587C-4D4D-AC48-1C462C3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C2B9E-7635-4676-B2C9-A962E3F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C5D64-3588-41A8-85E4-70D5C193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C3D85-9C02-47B0-AA2D-A61ED49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7FADF-745A-4579-9BE2-2DA6E380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BD24D-1341-42DE-8413-15B3FADC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6C024-78EA-424E-8B31-2E8EBDA5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21AC9-D0D8-42F8-A44C-C9BBB95D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AC723-A39C-4A85-B867-F6C10AEA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3C7A6-5EB1-46BB-82D1-28E3032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4B10-89A2-461C-9B21-3C6CBD1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8C02F-87C1-4CF6-8C73-5968EEA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E746BD-DF20-4C5D-86D1-EB2E607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6A0F0-B985-4D38-9456-3715CB0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D556B-B0A3-4A29-95B0-33B2946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62EA6-2739-4290-B178-AE18CCD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DD5F3-668E-4C54-A051-3D4B90F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3B558-2372-4EA8-8D38-7DA80E0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FD15F-D7F1-4638-8E14-505B0473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D5195-1AFC-42E6-BC77-0CD69AB0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91425-E7C6-47E7-A046-ADD26473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DC36-26E0-42A6-AF91-3CA6815C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8E037-F252-4F9D-91FD-998DF67A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C3E1C-BEA9-49E4-A0C5-453030EE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35DC8-2FDD-4065-B074-2D1A100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9F278-9856-4E16-AD8A-5949DE4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0A847D-B6C1-4B84-951E-07A913A5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7E213-02AB-4B5D-8B74-22AF120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4B3A9-6DE2-4FE0-8A8C-B4CA63E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0F5EF-05AA-4DEA-A4FB-3A5AB8D8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575E1-8BD6-4059-B8C3-5EF4CE9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A3AAC-FAFB-4B99-91C8-50FA7596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C7A-4C72-4E87-8E23-62BE27C8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56498-1C5B-48AE-9E39-A598F299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02259-DBD1-42A2-A120-1F0C9343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DFAC2-7B29-40B2-8F91-1CB48461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0E183-03A0-4741-84C3-F08DAA26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48DCC-9DD4-40AB-A681-5D8A34AD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01F06-17F1-4913-A9EF-3C99E9D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713D0-DFBA-4E8F-A0C8-72451CA1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70BA6-42D2-4B3E-85A2-A1621AD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BD440C-D84C-447C-A652-C654FF1A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26921-4918-47DF-B60C-A5BE0E6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6BE4-08B4-43BE-952D-08B45785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17C63-1A86-4B48-8931-EEE81D5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66895-C8E5-48AF-B375-6E493E3A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06FA9-DDDB-4DB2-BAAA-03DB4BE9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5BE9-8A6E-41EF-AE6D-772091EA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C89D-A251-4BF3-AD09-C76066E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6BAE-A9FD-4BA5-A803-F30A8F36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2F22-BFC2-4A78-B20A-E85F69D5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437-DC1F-4585-9366-8F292E6D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6686-DE64-48A0-9649-08D57389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ADE6-ABF6-42E9-9B58-4C8477F6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C03E-08A5-47A0-A7AB-D36A91A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C1AB-FDB1-4603-A958-E7AF29C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CE51-306B-40CE-90EC-56563CC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89D5-3B0C-403A-9A5A-3C81DCB1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36C9-E654-48CA-8429-7E56D4FB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8549-C57C-4379-9734-347BDF6C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CBBD-5DA4-454C-983C-D25AB56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6CC9-4575-4CF6-94C3-8E5CF37B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BE1-1DE2-4751-9DEA-F8A431F3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9DA7-35C9-434E-8E8E-EF4DF12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5558-54FB-41ED-9532-1614552C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46526-0CC9-4B80-AB17-F6D523F5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50C2-7E9E-49BF-BC62-4207D53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B7AE9-0958-43E2-83C4-DAE5704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8D7A-F2E9-4176-A6B2-77DA001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3393-3372-41CD-A0DA-3D4AF95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2FE0-CC5B-402B-A662-B45B1E25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0257-96A1-483B-BD00-D37361C4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E5FC-9B7F-480C-9399-DD0C2024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925-E713-41AD-B1E1-86A8C3FF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7A6C-9C51-4CAA-8C8F-42F46D3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07E2-B184-4874-A303-672D12C6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97B4-C4C9-414A-9BCC-ED08DAC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3D94-A1BD-4700-917E-6F6BCE2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B83B-3E30-41B1-937A-535B039E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B9F3-5B14-45C6-983C-28A47D6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5F00-F8E1-4F07-8620-6A410ADF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8B88-83D4-4C16-A123-6503C50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E88F6-D58B-470A-934E-E32E36C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F436-D80C-40AD-BB75-5F050A95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539-3CC9-4FDA-A669-2A3F8A5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349A-1FF8-42CD-A7FF-AA0802EC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A37E-56FC-4AC5-89EA-58FE930A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6A6F-C635-43C9-AFC5-C1CBEECD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FB8E8-1C0A-471C-AA51-CA2D31E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D93E-960A-49DA-A7F8-2757106D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5D0F-4AD6-424E-90C2-7C7923D3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FFBA-690E-4345-A0B5-E1DEDAB7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023E6-0CEF-421A-9176-855DA73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D37A2-4F4F-4079-9E2B-4C05DEA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5231E-5B5B-423F-A90D-739AD06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2C0-5628-4570-A0C9-04B653A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FBE96-196C-4149-9E6D-1A4DFA8B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C7A4-201F-428E-B2E2-4AA02210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A2FD-472B-4C96-A10C-E8835AE4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FE1A7-D08F-45B0-8C30-B138082B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0C33-B0B7-4470-8FC5-2E8392F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1E3B-3A88-4CEA-8AF9-B6AE08A7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37C9B-98EB-4212-A352-EC14DD3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3688-9E06-4573-9D47-7515964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BDDC5-1BCF-45FF-A8D9-B6FF3112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52DC0-9F37-4DE1-808C-C0C0E32E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871-5429-484E-A5C4-A979598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B980-D67D-4425-8C70-F685C9C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696D-992C-48CB-AEC1-B77009E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3C5F-AE16-465C-912F-5FF465B2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E9C4F-E754-44D9-878D-490E6CAA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300F1-CE93-43EF-9D72-8EB8ADFF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90D23-12DD-48D5-B85D-14021CF7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F941-8C6F-46C8-A573-3F8C32F7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8F97-304F-4405-AB03-CF7BE4FA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B16B7-CCB8-481A-9D48-B9AF4A48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E9C8-67E4-4BEF-87DB-7570976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5C9-A60C-4D83-B084-B71B6D7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D3D1C-76AD-4A81-BA3E-73BC4161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0E99C-1949-45D9-86CE-BA58CAB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A3E8-DD02-40F2-AD08-650CF25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A5FF-4A35-421B-BE1C-5990C78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74DC-F59F-43D7-8D98-526BEDFE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C874D-18E7-4A2E-B166-DF67E110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900E-4380-490F-9BFB-2AD6E616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1C95F-C261-4935-AB44-5E35B1C5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7E6AE-DF3A-487B-875A-58821BF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855E-EE7D-4BAB-93C2-A731B1F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B4E-C15A-4697-B84A-D05C5A712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682-3ADE-451F-BBA4-4C6205D94B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A3A5-95B0-44EE-BB68-C56E88229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9B9D-4C88-4266-8AC7-8AFCF5B97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859-D041-43A6-8C47-5837E21E9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5F1-0D20-45D5-AF81-09EB666BC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B9A3-C441-4F9D-919C-5ECB0333C6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05B-80B7-4B4E-92CF-4455DEF3B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FA65-FFF2-4504-89CD-E557E8647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01F-7C80-441C-B5E7-6684A0825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C69C-760E-442A-8982-25B72848A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2837-A6FA-4407-9951-3F14BFE48D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C2B-2E4A-499A-9250-ED4A21F64E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3F3-ABA9-46E4-B39D-C0B7702EE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60A-4C03-4B81-956C-1D9C68BF71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793C-11E3-42D0-9CAD-9F3EBFE5E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AAF1-EECB-4F7C-B2D6-942804206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0A17-DC3A-4201-9910-3795E9F63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16E9-8603-43CF-919C-10A934898F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006C-04E1-40DA-89C5-D8005095D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F8C-D32A-427A-A221-BCA637561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DB0-CFD8-404D-B58C-61E0507A1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3F0-FCED-44B1-B7E4-2783DD2B73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95EF-00CB-4AA2-B48F-5B03599EB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96A-A853-43E5-867B-8685ECB82A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4A27-4206-4F79-8DEA-6FFD7FA1D4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3331-6F3F-4C2A-9777-542424D02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424B-4915-493A-98B9-6A0C7F1081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3DC4-51A2-4D74-B25B-910D7E6EBA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467-5688-4F57-92FB-83C8FA8ED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B7A3-4413-4374-A09A-8835856EF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CA4B-5971-42FC-B20E-760740D26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F225-2723-4134-810E-624D36DFB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39A2-D00E-4599-9E23-1452BACA0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2470-1D07-41F0-B936-FFB1DF5F9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4034-3CF0-4C57-B618-D72938C20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B1A7-4BA9-4F0A-B775-879C27C5F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829-248C-4056-ADEF-366060183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105-6CEA-477F-B3D8-B317C5E70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CA24-28F9-495E-BE57-5329B442F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66960" y="3176640"/>
            <a:ext cx="5410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23720" y="1328760"/>
            <a:ext cx="8296560" cy="4200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1368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400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63528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92720" y="522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740720" y="5229360"/>
            <a:ext cx="5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8439120" cy="2686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547640" y="4043520"/>
            <a:ext cx="1729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476360" y="442764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498920" y="40528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427640" y="4437000"/>
            <a:ext cx="172872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7377120" y="40528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7305840" y="4437000"/>
            <a:ext cx="172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81080" y="933480"/>
            <a:ext cx="8781840" cy="4991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692360" y="246852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492360" y="2459160"/>
            <a:ext cx="11509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692360" y="3232080"/>
            <a:ext cx="136692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995640" y="3232080"/>
            <a:ext cx="23050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692360" y="3971880"/>
            <a:ext cx="165564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4284720" y="3981600"/>
            <a:ext cx="28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2050920" y="4836960"/>
            <a:ext cx="100836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5364000" y="4826160"/>
            <a:ext cx="100836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1647720" y="519588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5753160" y="51865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1835280" y="55897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6012000" y="55897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8234280" y="2708280"/>
            <a:ext cx="73044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8224920" y="3097080"/>
            <a:ext cx="73008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6"/>
          <a:stretch/>
        </p:blipFill>
        <p:spPr>
          <a:xfrm>
            <a:off x="8224920" y="3519360"/>
            <a:ext cx="73008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7"/>
          <a:stretch/>
        </p:blipFill>
        <p:spPr>
          <a:xfrm>
            <a:off x="8272440" y="3933720"/>
            <a:ext cx="73044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8"/>
          <a:stretch/>
        </p:blipFill>
        <p:spPr>
          <a:xfrm>
            <a:off x="8618400" y="4321080"/>
            <a:ext cx="46836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9"/>
          <a:stretch/>
        </p:blipFill>
        <p:spPr>
          <a:xfrm>
            <a:off x="8599320" y="4734000"/>
            <a:ext cx="46836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0"/>
          <a:stretch/>
        </p:blipFill>
        <p:spPr>
          <a:xfrm>
            <a:off x="8618400" y="5157720"/>
            <a:ext cx="46836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1"/>
          <a:stretch/>
        </p:blipFill>
        <p:spPr>
          <a:xfrm>
            <a:off x="8504280" y="5573880"/>
            <a:ext cx="468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3:3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